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965-CB3E-4805-8905-79DA58B5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B2A-4C50-4B23-AF51-A827DA9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2AE-7AD7-4E02-BF97-D80233C9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0F7-2EAF-40B5-A6AC-E6733CD3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973-94A5-4319-9408-900A8438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12F0-DF32-492B-A46C-010DDD8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162-08F3-481E-BF49-BC7B6AD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ADF-CD17-4F39-9299-BF04D09A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2FD-12A8-403D-8A86-A0A1E629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A3E-D970-4C96-AC83-FF96B86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A65-EBCD-4D88-9EBB-5DBAE123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7CE-12CE-4D18-AE90-3AAD8518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22AD-E1D9-48B5-82A4-2B5000D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768-F030-40CF-9E05-F37DB6A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B4DA-B716-4B41-9C90-3C50136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D30-0452-4AF3-B9F0-53DC4485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E849-FE82-4174-82CB-C1C208F6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66F-BEC8-436D-885F-3EF6ADC9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94-BB2B-4D97-BDAE-2CFF4B5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802-FEFD-4BAC-87EB-F4E4294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5CD-67F4-43A4-883E-8C679A6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981-E33E-4C96-B19A-7BD5019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33B-5455-4B3B-B89B-C03E671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B22-2BB7-4125-8D49-0438BF9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82E9-7812-478D-9D0C-78CB96DCE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CE2-91A6-4A98-B3B3-DF18ED061C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erification Analysis of a Plug Assist Thermoformed Part through Computer Sim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  “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Virtual Thermoformin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ined research initiativ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el Tessier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MT Materials, In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nard Hegeman,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KP, University of Stuttg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Karel Kouba and Petr Novotny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cufor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ri-Kal Cor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objectiv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/quantify the effect of various plug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riction data fo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ine material characterization for F-K’s HDPE materi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Step 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KP to produce force/displacement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select temperatur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plug materials (CMT and ot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ed strain rates (plug spee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676520"/>
          <a:ext cx="914400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066680" y="457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KP test fixture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ufb2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1419480" cy="2070000"/>
          </a:xfrm>
          <a:prstGeom prst="rect">
            <a:avLst/>
          </a:prstGeom>
          <a:ln w="0">
            <a:noFill/>
          </a:ln>
        </p:spPr>
      </p:pic>
      <p:pic>
        <p:nvPicPr>
          <p:cNvPr id="118" name="aufb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3997080" cy="2732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14520" y="5018040"/>
            <a:ext cx="675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019160"/>
            <a:ext cx="2787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00"/>
                </a:solidFill>
                <a:latin typeface="Times New Roman"/>
              </a:rPr>
              <a:t>Technical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velocity up to 4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temperature -80 to +25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maximum force 2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draw depth of 12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5880" y="3838680"/>
            <a:ext cx="3706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00"/>
                </a:solidFill>
                <a:latin typeface="Times New Roman"/>
              </a:rPr>
              <a:t>Measurement Performance:</a:t>
            </a:r>
            <a:r>
              <a:rPr b="0" lang="de-DE" sz="1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specimen thickness 0.1- 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various clamping and plug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constant heating with circulating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63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Black"/>
              </a:rPr>
              <a:t>Thermoforming Equipment at IKP -</a:t>
            </a: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 Black"/>
              </a:rPr>
              <a:t>Universal Testing Machine MFL-Systems</a:t>
            </a: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uform to convert data to K-BKZ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new model for HDPE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 to identify coefficient of f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the experimental results published at ANTEC ‘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ri-Kal to compare simulation using the new parameters to actual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95680" y="3373560"/>
          <a:ext cx="4343400" cy="31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373560"/>
                    <a:ext cx="43434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5335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simulation using origina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4572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simulation using modified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2286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new material, modified friction and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n simulation at Fabri-K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separate material properties from the frictional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be the best method to determine friction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PE was a more difficult material to determine friction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ed definite correlation between plug material and force/deformation curves as well as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of friction appears much higher than earlier thought (1.75 vs 1.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other options to obtain fric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iction data can then be combined with force/deformation curves to yield better material characteriz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MA friction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28800" y="1828800"/>
          <a:ext cx="6324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6324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anks to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el Tess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ard Hege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Kou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tr Novot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y Bry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rmoforming 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’s all about distrib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808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33720" y="2043000"/>
          <a:ext cx="6781680" cy="45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43000"/>
                    <a:ext cx="678168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et temperature (and temperature profi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formation (plug spe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f vacuum/air (ballooning,billow for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 assist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 material properties (friction, thermal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ug geometry is a big reason they refer to thermoforming as an art!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MVC-588F" descr=""/>
          <p:cNvPicPr/>
          <p:nvPr/>
        </p:nvPicPr>
        <p:blipFill>
          <a:blip r:embed="rId1"/>
          <a:srcRect l="0" t="6250" r="6249" b="0"/>
          <a:stretch/>
        </p:blipFill>
        <p:spPr>
          <a:xfrm>
            <a:off x="5029200" y="2959200"/>
            <a:ext cx="396252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752480" y="1752480"/>
          <a:ext cx="2667240" cy="193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752480"/>
                    <a:ext cx="266724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single%20plug" descr=""/>
          <p:cNvPicPr/>
          <p:nvPr/>
        </p:nvPicPr>
        <p:blipFill>
          <a:blip r:embed="rId4"/>
          <a:stretch/>
        </p:blipFill>
        <p:spPr>
          <a:xfrm>
            <a:off x="685800" y="41911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bri-Kal began using simulation softw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last photo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 Optimize plug shapes in the design s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developmen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development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understanding/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ence with Simul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k time to develop the “right”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ionally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llent visualization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cause/effect with plug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lug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arch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we worked, we wanted to better understand  the effect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erial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era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i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6:38:06Z</dcterms:created>
  <dc:creator>TBUSH</dc:creator>
  <dc:description/>
  <dc:language>en-US</dc:language>
  <cp:lastModifiedBy>TBUSH</cp:lastModifiedBy>
  <cp:lastPrinted>2002-09-12T13:36:15Z</cp:lastPrinted>
  <dcterms:modified xsi:type="dcterms:W3CDTF">2002-09-12T15:05:17Z</dcterms:modified>
  <cp:revision>23</cp:revision>
  <dc:subject/>
  <dc:title>Verification Analysis of a Plug Assist Thermoformed part through T-Sim computer simulation</dc:title>
</cp:coreProperties>
</file>